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B3AB66-D459-4263-B3BE-8EE52DD8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259C9B-9CCD-46B7-9462-D9C09C6D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5A92-B1D7-48F7-A9F0-E30C1A9D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32F4-8424-4CFE-9BF1-345D09AD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CC00-4350-4001-8839-B7B5F241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D5F3-5C2B-4F3B-AA45-ACC43546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90A2B-F9F3-4AAD-8F79-016BA69A38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30BDD-E291-43D5-9362-87E0B4911F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2710E-33CB-4747-8E77-06405AFCC4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DFF5F-FE70-41B9-9BB2-A30BE15531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46EC4-4139-4ABE-928C-37A73F64F6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03D3A-6AB9-405B-BFA4-56641C8A84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3004D-27AA-43EA-AFD0-A30F36A22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0DB7-5BE6-4681-B597-4860B5F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0B2EC-BA0E-4D2D-81A4-5EBEBD7F91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5BF21-CE79-4D81-B0AF-DF33F31A75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79148-AAF2-4A47-9562-7C36AB1F84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359A4-F492-43A5-B56F-FED87BB709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4C8A4-E30C-44D2-83BB-6CFED68181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9B58D-1EC4-4585-9485-A0C989CF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9864A-9AAA-4731-84DF-876CB3E4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0F2C3-1ED3-416C-945B-04B34829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7708A-CC4B-404F-B354-9EA7D479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30B47-CB03-4255-8A7A-54896A07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0929-FFC9-416E-AE8B-5061AC5F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66BF1-D910-4425-A3D5-404C3B96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4A957-2B10-457E-A609-1045AF5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2763C-C5D7-4879-8364-208FA29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2CBD5-2FAC-4A90-B808-A365D21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2F2C8-5BB0-47EF-B84C-93833469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436D1-C225-44D5-8368-48B5EEA3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B4158-8930-43AE-B877-CFF1CDA8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46E1-797C-4075-8165-542D171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D27C-8A63-4D41-AF5B-899E8B3D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3F1E-D13E-4D2C-90ED-DF284361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DA7E-5B80-4647-930D-51109DB4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5F37-AC38-408E-9466-8939134A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9482-75D2-4257-B4D8-E46A5A1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8827-E1B7-41D5-B012-A0F09BBDD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CA0A-9D3F-4497-AD4A-170B27C7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1823-7FD3-44C8-AE61-6CAA5E66B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2E84D-CA16-4333-87D1-0CB95DF3EB34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3A5D-183C-4CAF-9616-4728EA522A25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Middle-Level Education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Review and revision of Library Media Middle Level Indicators of Achievement Checklists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72000" y="-1332720"/>
            <a:ext cx="2711880" cy="3366000"/>
            <a:chOff x="-72000" y="-1332720"/>
            <a:chExt cx="2711880" cy="3366000"/>
          </a:xfrm>
        </p:grpSpPr>
        <p:sp>
          <p:nvSpPr>
            <p:cNvPr id="184" name=""/>
            <p:cNvSpPr/>
            <p:nvPr/>
          </p:nvSpPr>
          <p:spPr>
            <a:xfrm flipH="1">
              <a:off x="1330560" y="-1332720"/>
              <a:ext cx="467640" cy="2310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-72000" y="-111240"/>
              <a:ext cx="2711880" cy="2144520"/>
              <a:chOff x="-72000" y="-111240"/>
              <a:chExt cx="2711880" cy="2144520"/>
            </a:xfrm>
          </p:grpSpPr>
          <p:sp>
            <p:nvSpPr>
              <p:cNvPr id="186" name=""/>
              <p:cNvSpPr/>
              <p:nvPr/>
            </p:nvSpPr>
            <p:spPr>
              <a:xfrm rot="20115000">
                <a:off x="78840" y="33552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115000">
                <a:off x="208080" y="4179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2362320" y="1600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Vital to Success in 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High School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E43F-358E-420A-BE3C-27B79FF99E03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2819520"/>
            <a:ext cx="8534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6765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Data Drives Decisions</a:t>
            </a:r>
            <a:endParaRPr b="0" lang="en-US" sz="54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5760" y="-1242720"/>
            <a:ext cx="2709360" cy="3342960"/>
            <a:chOff x="-5760" y="-1242720"/>
            <a:chExt cx="2709360" cy="3342960"/>
          </a:xfrm>
        </p:grpSpPr>
        <p:sp>
          <p:nvSpPr>
            <p:cNvPr id="192" name=""/>
            <p:cNvSpPr/>
            <p:nvPr/>
          </p:nvSpPr>
          <p:spPr>
            <a:xfrm flipH="1">
              <a:off x="1395360" y="-124272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-5760" y="-16200"/>
              <a:ext cx="2709360" cy="2116440"/>
              <a:chOff x="-5760" y="-16200"/>
              <a:chExt cx="2709360" cy="2116440"/>
            </a:xfrm>
          </p:grpSpPr>
          <p:sp>
            <p:nvSpPr>
              <p:cNvPr id="194" name=""/>
              <p:cNvSpPr/>
              <p:nvPr/>
            </p:nvSpPr>
            <p:spPr>
              <a:xfrm rot="20172600">
                <a:off x="144000" y="41652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20172600">
                <a:off x="273240" y="4989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Review and Revision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School Library sections of Basic Educational Data Surveys (BEDS)</a:t>
            </a:r>
            <a:br>
              <a:rPr sz="2400"/>
            </a:b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Statewide P-16 data systems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Link resources and certified specialists to student achievement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46BB7-61FD-4113-9E6C-BB2C41FD3E71}" type="slidenum">
              <a:t>4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edia Centers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 Improve Student Achievement 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342864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Revised School Library Media Program Evaluation (SLMPE) Rubric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-158400" y="-1395000"/>
            <a:ext cx="2709360" cy="3342960"/>
            <a:chOff x="-158400" y="-1395000"/>
            <a:chExt cx="2709360" cy="3342960"/>
          </a:xfrm>
        </p:grpSpPr>
        <p:sp>
          <p:nvSpPr>
            <p:cNvPr id="200" name=""/>
            <p:cNvSpPr/>
            <p:nvPr/>
          </p:nvSpPr>
          <p:spPr>
            <a:xfrm flipH="1">
              <a:off x="1242720" y="-139500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-158400" y="-168480"/>
              <a:ext cx="2709360" cy="2116440"/>
              <a:chOff x="-158400" y="-168480"/>
              <a:chExt cx="2709360" cy="2116440"/>
            </a:xfrm>
          </p:grpSpPr>
          <p:sp>
            <p:nvSpPr>
              <p:cNvPr id="202" name=""/>
              <p:cNvSpPr/>
              <p:nvPr/>
            </p:nvSpPr>
            <p:spPr>
              <a:xfrm rot="20172600">
                <a:off x="-8280" y="26424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0172600">
                <a:off x="120600" y="34668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C011-D6E5-48D8-93D0-99B5D087FA4D}" type="slidenum">
              <a:t>5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edia Program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ssessmen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158400" y="-1395000"/>
            <a:ext cx="2709360" cy="3342960"/>
            <a:chOff x="-158400" y="-1395000"/>
            <a:chExt cx="2709360" cy="3342960"/>
          </a:xfrm>
        </p:grpSpPr>
        <p:sp>
          <p:nvSpPr>
            <p:cNvPr id="207" name=""/>
            <p:cNvSpPr/>
            <p:nvPr/>
          </p:nvSpPr>
          <p:spPr>
            <a:xfrm flipH="1">
              <a:off x="1242720" y="-139500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-158400" y="-168480"/>
              <a:ext cx="2709360" cy="2116440"/>
              <a:chOff x="-158400" y="-168480"/>
              <a:chExt cx="2709360" cy="2116440"/>
            </a:xfrm>
          </p:grpSpPr>
          <p:sp>
            <p:nvSpPr>
              <p:cNvPr id="209" name=""/>
              <p:cNvSpPr/>
              <p:nvPr/>
            </p:nvSpPr>
            <p:spPr>
              <a:xfrm rot="20172600">
                <a:off x="-8280" y="26424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172600">
                <a:off x="120600" y="34668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3919-BE30-4C1A-A4A4-101208CA17B6}" type="slidenum">
              <a:t>6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3:44Z</dcterms:modified>
  <cp:revision>110</cp:revision>
  <dc:subject/>
  <dc:title>Work Group Question here</dc:title>
</cp:coreProperties>
</file>